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493-2F6D-44CC-B9EC-6BFB65DB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049-6DED-423C-BD94-450127CF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0ED-77B2-4818-A739-D647B71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271-00FB-45EB-92FB-063D0C70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A91B-F804-4EA9-A689-38E591C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CEF7-2969-4094-BA4F-03AB3D30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1DF-02BC-426D-BB80-8AA50CD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32F-774E-4D7F-AA39-D815C7DC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86D-BF38-4095-9F6F-F7BF2B7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11A7-054B-4C8C-AC23-408E02B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F8E-2E97-48E2-9990-6B6AA30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6EA-D95F-4A49-A3B9-37B282C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E66F-048C-4FAD-A6B5-3DF538C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7757-3E7C-4E52-80D7-80580EB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BA4D-676F-423A-9FD8-A607428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4DBA-0D50-405B-85AD-1F9A60BA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7F01-865E-4419-A8F9-7D476E19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C72-081C-49C3-8446-FF4A4CA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FED-D169-414F-92A1-5F3FA39A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2B8-2196-4ED5-86F3-A35E84B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B48-59A1-4F88-B73A-7366CD03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DF9-1876-4927-AEDB-4BE9590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A5B-DF0F-4DE3-A1FB-B8F6F40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C67-DA83-4BF8-B675-10AC15E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DB30-DFFE-4069-AF1D-DA4C22292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1462-8CD7-40BD-B0AB-E12E303B5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odak.com/US/en/digital/dlc/index.html" TargetMode="External"/><Relationship Id="rId2" Type="http://schemas.openxmlformats.org/officeDocument/2006/relationships/hyperlink" Target="http://coe.sdsu.edu/eet/articles/projectors/index.htm" TargetMode="External"/><Relationship Id="rId3" Type="http://schemas.openxmlformats.org/officeDocument/2006/relationships/hyperlink" Target="http://www.buyplusdirect.com/site/product/endorsements.html#classroo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mio.com/" TargetMode="External"/><Relationship Id="rId2" Type="http://schemas.openxmlformats.org/officeDocument/2006/relationships/hyperlink" Target="http://www.dell.com/" TargetMode="External"/><Relationship Id="rId3" Type="http://schemas.openxmlformats.org/officeDocument/2006/relationships/hyperlink" Target="http://www.education-world.com/a_tech/tech/tech195.s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cytech.org/java/patterns/patterns_j.shtml" TargetMode="External"/><Relationship Id="rId2" Type="http://schemas.openxmlformats.org/officeDocument/2006/relationships/hyperlink" Target="http://arcytech.org/java/patterns/patterns_j.shtml" TargetMode="External"/><Relationship Id="rId3" Type="http://schemas.openxmlformats.org/officeDocument/2006/relationships/hyperlink" Target="http://www.iknowthat.com/com" TargetMode="External"/><Relationship Id="rId4" Type="http://schemas.openxmlformats.org/officeDocument/2006/relationships/hyperlink" Target="http://www.kidshealth.org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frontrow.com/e/stories.asp" TargetMode="External"/><Relationship Id="rId2" Type="http://schemas.openxmlformats.org/officeDocument/2006/relationships/hyperlink" Target="http://www.gofrontrow.com/e/stories.asp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chnology in the K – 2 Classro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ing the Learning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49604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mart Boa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ractive “chalk” boa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s a world of information lear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es several learning sty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s a child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smarttech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 Periph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s any whiteboard into an interactive teaching too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rge variety of options – Mimio, Dell tablet, Smart Board Airliner are just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existing hardware and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828960" cy="24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esources and websi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o find more information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amera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kodak.com/US/en/digital/dlc/index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wam.umd.edu/~toh/image/DigitialCameraUse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or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coe.sdsu.edu/eet/articles/projectors/index.ht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buyplusdirect.com/site/product/endorsements.html#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esources and websi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t’d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 peripher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mimio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dell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learning forum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ducation-world.com/a_tech/tech/tech195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ternet sites that are helpful for learn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rcytech.org/java/patterns/patterns_j.s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ubject area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iknowthat.com/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: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kidshealth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district16.nbed.nb.ca/science/Institute/institute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World:  http://www.education-world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vailabl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round Sound Systems and Micro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 and video players (VHS or DV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/Video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Bo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 periph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V and Video Play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enhance lesson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s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ngexplorers.com/search.asp?SKW=books+cds&amp;TKW=YE12&amp;GEN1=Books+/+Videos+/+DVD's+/+CD'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urricula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reward class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50208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462480" cy="259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624120" cy="2732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be used to visually show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see information to underst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y to set u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uter hook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gital and Video Camer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201840" cy="218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record information and memo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enhance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kids to be creative and expands the imag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district16.nbed.nb.ca/science/Institute/multimedi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ds love th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581640" cy="22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round Sound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 Row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at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the voice lou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frien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114800" cy="3430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33960" y="3809880"/>
            <a:ext cx="4010040" cy="27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urround Sound Systems cont’d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s every single child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not learn what they do not h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frontrow.com/e/stories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854440" cy="289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round Sound System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038480" cy="421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95680" cy="35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uters and Inter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uppor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different learning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iknowthat.com/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514680" cy="2863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88620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7:43:56Z</dcterms:created>
  <dc:creator>nbdoe</dc:creator>
  <dc:description/>
  <dc:language>en-US</dc:language>
  <cp:lastModifiedBy>nbdoe</cp:lastModifiedBy>
  <dcterms:modified xsi:type="dcterms:W3CDTF">2007-02-28T21:40:39Z</dcterms:modified>
  <cp:revision>26</cp:revision>
  <dc:subject/>
  <dc:title>Technology in the K – 2 Classroom</dc:title>
</cp:coreProperties>
</file>